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喂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喂</a:t>
            </a:r>
            <a:r>
              <a:rPr b="1" lang="en-US" sz="6500" spc="-1" strike="noStrike">
                <a:solidFill>
                  <a:srgbClr val="000000"/>
                </a:solidFill>
                <a:latin typeface="굴림"/>
              </a:rPr>
              <a:t>!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东山在吗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여보세요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wè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图书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去图书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도서관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úshūguǎ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我在图书馆看书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에서 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à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见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在哪儿见面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만나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ànmi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门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5"/>
          <p:cNvSpPr/>
          <p:nvPr/>
        </p:nvSpPr>
        <p:spPr>
          <a:xfrm rot="10800000">
            <a:off x="0" y="51912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在学校门口见面。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정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énk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公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去公园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공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ōngyu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打错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전화를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걸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ǎ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打错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틀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uò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你是哪位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ǎ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位是王老师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wè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电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5"/>
          <p:cNvSpPr/>
          <p:nvPr/>
        </p:nvSpPr>
        <p:spPr>
          <a:xfrm rot="10800000">
            <a:off x="142560" y="5176080"/>
            <a:ext cx="671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他的电话号码是多少？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전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iànhuà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号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这是我的电话号码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번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àomǎ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多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213840" y="5176440"/>
            <a:ext cx="6386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你的电话号码是多少？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몇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얼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uōsha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5"/>
          <p:cNvSpPr/>
          <p:nvPr/>
        </p:nvSpPr>
        <p:spPr>
          <a:xfrm rot="10800000">
            <a:off x="142560" y="5191200"/>
            <a:ext cx="671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三零五路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0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영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í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有什么事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일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一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一起回家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함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ìq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5:14:45Z</dcterms:modified>
  <cp:revision>162</cp:revision>
  <dc:subject/>
  <dc:title>슬라이드 1</dc:title>
</cp:coreProperties>
</file>